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579-28CA-4950-AFD0-1F07DD46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8F0-4D58-4564-A77C-1BD3A1B2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870-77C6-4AB2-ACB7-3FDDB1E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C8C-C676-4BBD-ADC8-1957A1F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DD4-60D2-4830-8997-9362BD2B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2E95-D702-425A-90E8-7B247DE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9867-0F05-46B0-AC66-7A6672D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2920-CB61-4250-8BD1-A2E95686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80A-BADD-438C-8842-9D6FF62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25AB-4160-491A-B59A-8918FB4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381-844D-4883-9CCF-6FE249E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71E-F0BF-4236-9417-1F8848F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0E1-6532-4292-9163-DC05085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4516-A1A4-4D72-A0B6-86135B1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643-49BC-4D1B-A82B-3D78972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33F-AE23-4DC9-839C-4F838125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8EC8-A530-4605-88D9-2FD2E671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BB4-99A7-469A-9B35-1275ED5B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4FE-074A-4716-8201-95EC05F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FBC-6028-49C6-B0B4-8321355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E17-8656-4C43-9C33-9A8947D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8E7-0E94-4B1D-8CC5-6D9F47B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A50-26A7-4226-BC87-C26D1D6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695-ADE1-4CA2-9F3C-E61A31D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F46-A5E9-4996-B803-2EFE0BE2B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EB0-E9CD-4A31-B295-ED7D3E519C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tex.com.ua/pics/tour/icon/full/28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3870/" TargetMode="External"/><Relationship Id="rId2" Type="http://schemas.openxmlformats.org/officeDocument/2006/relationships/hyperlink" Target="http://www.liebe-de.okis.ru/mentalitet.html" TargetMode="External"/><Relationship Id="rId3" Type="http://schemas.openxmlformats.org/officeDocument/2006/relationships/hyperlink" Target="http://www.langust.ru/review/xenoger2.s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Картинка 72 из 213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403280" y="2708280"/>
            <a:ext cx="624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Немецкий менталитет сего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88240" y="573408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ленкова Анна, 426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родная поговор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406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Что русскому хорошо, то немцу смер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тличаются люди на Земл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50004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составляет менталитет жителя Герма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ём проявляются отличия моральных и нравственных ценностей жителей Германии и Ро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астны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менталит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лияют условия жизни, быт на его становление на примере немецкой н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ём основные отличительные черты менталитетов двух стран: Германии и Ро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орма представления результатов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кла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ер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кл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роки и этапы проведения исследова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й урок. Тема: «Понятие менталитет. Что он включает, в чём проявляется. Главные факторы, воздействующие на становление менталитет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й урок. Тема: «Условия, влияющие на становление менталитета на примере немецкой нац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й, 4-й урок. Тема: «Различие двух разных менталитетов жителей России и Герман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й урок. Подведение итогов и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рнет-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shkolazhizni.ru/archive/0/n-387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liebe-de.okis.ru/mentalitet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www.langust.ru/review/xenoger2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21:43Z</dcterms:created>
  <dc:creator>Au226</dc:creator>
  <dc:description/>
  <dc:language>en-US</dc:language>
  <cp:lastModifiedBy>Au226</cp:lastModifiedBy>
  <dcterms:modified xsi:type="dcterms:W3CDTF">2009-10-15T10:48:43Z</dcterms:modified>
  <cp:revision>3</cp:revision>
  <dc:subject/>
  <dc:title>Слайд 1</dc:title>
</cp:coreProperties>
</file>